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FCAF-DE16-4356-B88C-7211477D7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34AA-B5CA-44FB-BF89-13F2DF4F1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89B3-0BB7-4864-B348-6BCB0DF7A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1078-11B1-4001-AFD6-E6166F59D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8DC7B-BB17-4A6A-802F-81C845EC9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0E1E5-A46B-4757-A40C-2D266CCB4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B34D1-B095-4C0F-8827-92577F385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3C19B-A74F-437C-9BC4-00649116C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C1EA9-BADC-48EC-BD07-87105B700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C1E8A-CA40-44D3-9E3B-34A655954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A8CC1-907A-4813-9057-578A4364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9F5D-5B02-410C-8AE5-C5889ABFA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B7D91-B749-4AA3-A0DA-0D835416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EA503-497E-48B0-A753-39785A68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CD7F9-900B-4E72-A64A-0A0166CB2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4F532-8B98-4D16-B4E5-B39D595BB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2D991-1340-4401-8E30-71A86438A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88B7-9C94-42DC-A576-CF6C4F8FB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4DEB-7448-418B-B0AF-90FFE5C64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DD3F-4693-4382-8BAC-E5742463C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C01A-7834-4AA9-A1D6-DB987A3E7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240C-D493-4EF6-BB79-B365C7A8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21CA-59FE-4347-ADBF-7265CEF3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11B4-B004-475D-92D9-FC4127B5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42252-B816-48E1-92C9-C74A33E51DFD}" type="slidenum">
              <a:rPr b="0" lang="de-DE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5438A-55A7-4E67-8566-C299301CADC0}" type="slidenum">
              <a:rPr b="0" lang="de-DE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14240" y="499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United Kingdo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046240" y="4095360"/>
            <a:ext cx="6045120" cy="15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898989"/>
              </a:solidFill>
              <a:latin typeface="Tahoma"/>
            </a:endParaRPr>
          </a:p>
        </p:txBody>
      </p:sp>
      <p:pic>
        <p:nvPicPr>
          <p:cNvPr id="101" name="Grafik 3" descr="stadtplan_greatbritain.gif"/>
          <p:cNvPicPr/>
          <p:nvPr/>
        </p:nvPicPr>
        <p:blipFill>
          <a:blip r:embed="rId1"/>
          <a:stretch/>
        </p:blipFill>
        <p:spPr>
          <a:xfrm>
            <a:off x="2000160" y="1714680"/>
            <a:ext cx="4762440" cy="45147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" descr=""/>
          <p:cNvPicPr/>
          <p:nvPr/>
        </p:nvPicPr>
        <p:blipFill>
          <a:blip r:embed="rId2"/>
          <a:stretch/>
        </p:blipFill>
        <p:spPr>
          <a:xfrm>
            <a:off x="6715080" y="4429080"/>
            <a:ext cx="506520" cy="352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3"/>
          <a:stretch/>
        </p:blipFill>
        <p:spPr>
          <a:xfrm>
            <a:off x="5786280" y="2071800"/>
            <a:ext cx="533520" cy="352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"/>
          <p:cNvPicPr/>
          <p:nvPr/>
        </p:nvPicPr>
        <p:blipFill>
          <a:blip r:embed="rId4"/>
          <a:stretch/>
        </p:blipFill>
        <p:spPr>
          <a:xfrm>
            <a:off x="3786120" y="3214800"/>
            <a:ext cx="501840" cy="342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5"/>
          <a:stretch/>
        </p:blipFill>
        <p:spPr>
          <a:xfrm>
            <a:off x="4286160" y="5143680"/>
            <a:ext cx="53028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Foo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395280" y="2276640"/>
            <a:ext cx="7416720" cy="32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Breakfast impor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Pud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Be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Whisk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T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Pub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Picture 4" descr="58227901_5837aae792"/>
          <p:cNvPicPr/>
          <p:nvPr/>
        </p:nvPicPr>
        <p:blipFill>
          <a:blip r:embed="rId1"/>
          <a:stretch/>
        </p:blipFill>
        <p:spPr>
          <a:xfrm>
            <a:off x="5219640" y="1989000"/>
            <a:ext cx="3168720" cy="21099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109" name="Picture 5" descr="180px-Christmas_pudding"/>
          <p:cNvPicPr/>
          <p:nvPr/>
        </p:nvPicPr>
        <p:blipFill>
          <a:blip r:embed="rId2"/>
          <a:stretch/>
        </p:blipFill>
        <p:spPr>
          <a:xfrm>
            <a:off x="5219640" y="4292640"/>
            <a:ext cx="3168720" cy="19810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Music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395280" y="2276640"/>
            <a:ext cx="7416720" cy="368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Orchestr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Jaz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Rock ’n’ Ro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Rock: The Beat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P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classical mu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Picture 4" descr="studio_orchester"/>
          <p:cNvPicPr/>
          <p:nvPr/>
        </p:nvPicPr>
        <p:blipFill>
          <a:blip r:embed="rId1"/>
          <a:stretch/>
        </p:blipFill>
        <p:spPr>
          <a:xfrm>
            <a:off x="5292720" y="1989000"/>
            <a:ext cx="3144960" cy="24098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Spor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95280" y="2276640"/>
            <a:ext cx="7416720" cy="41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Cricket: national S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Footb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Premier Leag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Gol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Rugb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Tenn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Horserac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Picture 4" descr="images"/>
          <p:cNvPicPr/>
          <p:nvPr/>
        </p:nvPicPr>
        <p:blipFill>
          <a:blip r:embed="rId1"/>
          <a:stretch/>
        </p:blipFill>
        <p:spPr>
          <a:xfrm>
            <a:off x="5983200" y="1989000"/>
            <a:ext cx="1886040" cy="2016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116" name="Picture 5" descr="epl_600"/>
          <p:cNvPicPr/>
          <p:nvPr/>
        </p:nvPicPr>
        <p:blipFill>
          <a:blip r:embed="rId2"/>
          <a:stretch/>
        </p:blipFill>
        <p:spPr>
          <a:xfrm>
            <a:off x="2987640" y="3933720"/>
            <a:ext cx="3816360" cy="1908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Cul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182600" y="2017800"/>
          <a:ext cx="7772400" cy="20527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ngl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cotl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rthern Irel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Queen´s guar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own langu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bagpip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nothing spec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tee 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Highland  Gam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black humo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</a:t>
                      </a:r>
                      <a:r>
                        <a:rPr b="0" lang="de-DE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ch N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119" name="Grafik 4" descr="caber toss.jpg"/>
          <p:cNvPicPr/>
          <p:nvPr/>
        </p:nvPicPr>
        <p:blipFill>
          <a:blip r:embed="rId1"/>
          <a:stretch/>
        </p:blipFill>
        <p:spPr>
          <a:xfrm>
            <a:off x="3571920" y="4071960"/>
            <a:ext cx="1093680" cy="2143080"/>
          </a:xfrm>
          <a:prstGeom prst="rect">
            <a:avLst/>
          </a:prstGeom>
          <a:ln w="0">
            <a:noFill/>
          </a:ln>
        </p:spPr>
      </p:pic>
      <p:pic>
        <p:nvPicPr>
          <p:cNvPr id="120" name="Grafik 5" descr="loch_ness.jpg"/>
          <p:cNvPicPr/>
          <p:nvPr/>
        </p:nvPicPr>
        <p:blipFill>
          <a:blip r:embed="rId2"/>
          <a:stretch/>
        </p:blipFill>
        <p:spPr>
          <a:xfrm>
            <a:off x="5357880" y="4214880"/>
            <a:ext cx="3047760" cy="2000160"/>
          </a:xfrm>
          <a:prstGeom prst="rect">
            <a:avLst/>
          </a:prstGeom>
          <a:ln w="0">
            <a:noFill/>
          </a:ln>
        </p:spPr>
      </p:pic>
      <p:pic>
        <p:nvPicPr>
          <p:cNvPr id="121" name="Grafik 6" descr="Changing_of_the_Guard,_Buckingham_Palace.jpg"/>
          <p:cNvPicPr/>
          <p:nvPr/>
        </p:nvPicPr>
        <p:blipFill>
          <a:blip r:embed="rId3"/>
          <a:stretch/>
        </p:blipFill>
        <p:spPr>
          <a:xfrm>
            <a:off x="142920" y="4071960"/>
            <a:ext cx="2952720" cy="2214720"/>
          </a:xfrm>
          <a:prstGeom prst="rect">
            <a:avLst/>
          </a:prstGeom>
          <a:ln w="0">
            <a:noFill/>
          </a:ln>
        </p:spPr>
      </p:pic>
      <p:cxnSp>
        <p:nvCxnSpPr>
          <p:cNvPr id="122" name="Gekrümmte Verbindung 8"/>
          <p:cNvCxnSpPr/>
          <p:nvPr/>
        </p:nvCxnSpPr>
        <p:spPr>
          <a:xfrm flipV="1" rot="10800000">
            <a:off x="356400" y="2523600"/>
            <a:ext cx="826200" cy="1548720"/>
          </a:xfrm>
          <a:prstGeom prst="curvedConnector2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Gekrümmte Verbindung 16"/>
          <p:cNvCxnSpPr/>
          <p:nvPr/>
        </p:nvCxnSpPr>
        <p:spPr>
          <a:xfrm flipV="1" rot="10800000">
            <a:off x="4117320" y="2862000"/>
            <a:ext cx="951480" cy="1210320"/>
          </a:xfrm>
          <a:prstGeom prst="curvedConnector5">
            <a:avLst>
              <a:gd name="adj1" fmla="val 50908"/>
              <a:gd name="adj2" fmla="val 36328"/>
              <a:gd name="adj3" fmla="val 50908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Gekrümmte Verbindung 22"/>
          <p:cNvCxnSpPr/>
          <p:nvPr/>
        </p:nvCxnSpPr>
        <p:spPr>
          <a:xfrm flipV="1" rot="10800000">
            <a:off x="6881040" y="3198600"/>
            <a:ext cx="131040" cy="1016640"/>
          </a:xfrm>
          <a:prstGeom prst="curvedConnector5">
            <a:avLst>
              <a:gd name="adj1" fmla="val 63360"/>
              <a:gd name="adj2" fmla="val 29047"/>
              <a:gd name="adj3" fmla="val 6336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5" name="Textfeld 28"/>
          <p:cNvSpPr/>
          <p:nvPr/>
        </p:nvSpPr>
        <p:spPr>
          <a:xfrm>
            <a:off x="3571920" y="635796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caber to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333399"/>
                </a:solidFill>
                <a:latin typeface="Tahoma"/>
              </a:rPr>
              <a:t>Cloth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Textfeld 4"/>
          <p:cNvSpPr/>
          <p:nvPr/>
        </p:nvSpPr>
        <p:spPr>
          <a:xfrm>
            <a:off x="3203640" y="1785960"/>
            <a:ext cx="222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alibri"/>
              </a:rPr>
              <a:t>Scotland: ki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Grafik 5" descr="schottenrock.jpg"/>
          <p:cNvPicPr/>
          <p:nvPr/>
        </p:nvPicPr>
        <p:blipFill>
          <a:blip r:embed="rId1"/>
          <a:stretch/>
        </p:blipFill>
        <p:spPr>
          <a:xfrm>
            <a:off x="2071800" y="2357280"/>
            <a:ext cx="5000400" cy="34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47280" y="3357360"/>
            <a:ext cx="597708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333399"/>
                </a:solidFill>
                <a:latin typeface="Tahoma"/>
              </a:rPr>
              <a:t>Thank you for listening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8:24:47Z</dcterms:created>
  <dc:creator>Nico</dc:creator>
  <dc:description/>
  <dc:language>en-US</dc:language>
  <cp:lastModifiedBy>Sonja</cp:lastModifiedBy>
  <dcterms:modified xsi:type="dcterms:W3CDTF">2010-03-07T16:55:06Z</dcterms:modified>
  <cp:revision>10</cp:revision>
  <dc:subject/>
  <dc:title>United Kingdom</dc:title>
</cp:coreProperties>
</file>